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74F-1B20-495B-9AF8-B4A0DD7C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707C-7C53-4C14-837C-B19DB54F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A2B-31EE-493C-BB00-C9FE04E3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2A10-AB1B-4684-8342-26D8520B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95FE-9E84-4E37-8C55-407061BD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E620-BEDC-4A97-9D0C-2D0BE486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56BF-246E-4BAF-BDFE-1DB0EDDB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F0D4-EC8A-49A1-9ADB-5AD430AE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7DDC-7FCF-4480-82F3-9381BCE6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DCC5-9B2F-4F65-86D9-CB8DE05F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3C51-0BD6-4E26-B5D9-4A29E0A1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4FB-82E4-4879-988E-0EB81E4A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4C2D-94DD-4953-954C-A6BC128A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80A8-00F4-4D54-9CE1-1FFB25A5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6C3C-DA4F-4353-98EC-9FB05C5F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F0C0-769F-4074-A44E-B00FDE8A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294E-4D7B-4E10-9A42-CD722A5C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776-07FC-4272-95C4-D177A762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481-7BC4-4CE3-AF59-0A626B53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CB2-F9B1-4226-938F-F8C79316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2AF7-4001-441D-92FB-C69731C3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A97-E2FF-4733-8B52-E663096D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AAA-559B-4D73-A3C4-358D2D0A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B7D-3E42-44DF-849F-069D6189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624F-563A-4A72-B851-1548D9A4E0C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70C1-FC1E-49D3-99D8-DC8FF43871C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900" spc="-1" strike="noStrike">
                <a:solidFill>
                  <a:srgbClr val="006666"/>
                </a:solidFill>
                <a:latin typeface="Verdana"/>
              </a:rPr>
              <a:t>« Предложения с вводными конструкциями»</a:t>
            </a:r>
            <a:endParaRPr b="0" lang="en-US" sz="5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981080" y="4225680"/>
            <a:ext cx="6400800" cy="17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Выполнил ученик 8  класса:                                             Машанов Илья Владимирович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Группы вводных слов по значению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ВВОДНЫЕ СЛОВА, СЛУЖАЩИЕ ДЛЯ ПРИВЛЕЧЕНИЯ ВНИМАНИЯ СОБЕСЕДНИК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(знаешь (знаете) , понимаешь (понимаете) , послушай (послушайте)).</a:t>
            </a:r>
            <a:r>
              <a:rPr b="0" i="1" lang="ru-RU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99"/>
                </a:solidFill>
                <a:latin typeface="Verdana"/>
              </a:rPr>
              <a:t>Понимаете, вы таким образом ничего не добьётесь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нформационные ресурсы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http://www.traktat.com/language/book/synt/prost_01/vv_ko.php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http://www.prosv.ru/ebooks/nikolina_russkii_8/14.htm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http://www.hi-edu.ru/e-books/xbook089/01/index.html?part-035.htm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Вопросы, на которые нужно ответить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такое вводная конструкц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обособляются вводные конструкции на письм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ие бывают  группы вводных слов по значению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4" descr="а"/>
          <p:cNvPicPr/>
          <p:nvPr/>
        </p:nvPicPr>
        <p:blipFill>
          <a:blip r:embed="rId1"/>
          <a:stretch/>
        </p:blipFill>
        <p:spPr>
          <a:xfrm>
            <a:off x="5746680" y="3886200"/>
            <a:ext cx="1941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Что такое вводная конструкци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Вводные конструкции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— это слова, словосочетания или предложения, с помощью которых говорящий выражает своё отношение к тому, что он сообща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Из всех его недостатков, бесспорно 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( вводное слово),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первым и важнейшим было неуважение к отцу.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Picture 4" descr="р"/>
          <p:cNvPicPr/>
          <p:nvPr/>
        </p:nvPicPr>
        <p:blipFill>
          <a:blip r:embed="rId1"/>
          <a:stretch/>
        </p:blipFill>
        <p:spPr>
          <a:xfrm>
            <a:off x="6781680" y="5265720"/>
            <a:ext cx="205740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Как обособляются вводные конструкции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водные слова и предложения всегда интонационно выделены: они произносятся, как правило, с понижением тона и отделяются паузами от членов предложения, а на письме – запяты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ро вас я не слыхал, к несчастью, ничего (М. Лермонтов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Группы вводных слов по значению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Вводные слова, выражающие степень уверенности говорящего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( без сомнения ,безусловно, бесспорно, вероятно ,возможно, кажется, конечно, может быть ,очевидно, по-видимому, разумеется 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Чайки над мачтами с криками вьются –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Может быть, плачут, а может, смеютс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Группы вводных слов по значению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r>
              <a:rPr b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ВВОДНЫЕ СЛОВА, ВЫРАЖАЮЩИЕ ЧУВСТВА ГОВОРЯЩЕГО 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(к радости, к сожалению, к счастью )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i="1" lang="ru-RU" sz="3600" spc="-1" strike="noStrike">
                <a:solidFill>
                  <a:srgbClr val="006699"/>
                </a:solidFill>
                <a:latin typeface="Verdana"/>
              </a:rPr>
              <a:t>К  счастью, контрольной не будет !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Группы вводных слов по значению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ВВОДНЫЕ СЛОВА,НАЗЫВАЮЩИЕ ИСТОЧНИК ВЫСКАЗЫВАНИЯ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(как говорят , по мнению , по словам , по-моему 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По моему, он неправильно поступи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Группы вводных слов по значению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ВВОДНЫЕ СЛОВА, СЛУЖАЩИЕ ДЛЯ ОБОЗНАЧЕНИЯ ПОРЯДКА ЯВЛЕНИЙ (МЫСЛЕЙ), ЛОГИЧЕСКОЙ СВЯЗИ МЕЖДУ НИМИ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(значит, итак, наконец, например,следовательно, таким образом, во-первых, во-вторых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Значит, не всё потеряно и у нас есть шанс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Группы вводных слов по значению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ВВОДНЫЕ СЛОВА, СЛУЖАЩИЕ ДЛЯ ОЦЕНКИ СТИЛЯ ВЫСКАЗЫВАНИЯ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(другими словами , как говорят , мягко говоря , образно говоря ,прямо скажем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Как говорят, насильно мил не будеш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ша</dc:creator>
  <dc:description/>
  <dc:language>en-US</dc:language>
  <cp:lastModifiedBy>Наташа</cp:lastModifiedBy>
  <dcterms:modified xsi:type="dcterms:W3CDTF">2010-05-15T10:48:1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